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458-3055-458D-AB2C-5F3B5FF4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8E57-12CE-4198-8FB7-B17FB673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F349-62C7-486E-950E-F0690C04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6C57-80AA-44BD-86D5-4F64708C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354-59C7-4B0E-ABCF-AD0C214A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F9D8-05DB-4B1A-BF7E-5476BF54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324-3A4F-4FCD-A3A2-A209F5BE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CD46-3880-429F-9BA6-CD757C74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E7C2-07F1-45B1-95E3-E3A3C37C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E36B-9191-4A2C-8FCD-5E31AFFF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F2D-AFDB-4E08-9FC2-9247BCB5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2654-3E89-4A88-BC41-FA19600B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43BC-959C-4416-B21E-822241B06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35120" y="0"/>
            <a:ext cx="587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21:20:35Z</dcterms:created>
  <dc:creator>Patrick J. Mooney</dc:creator>
  <dc:description/>
  <dc:language>en-US</dc:language>
  <cp:lastModifiedBy>Patrick J. Mooney</cp:lastModifiedBy>
  <dcterms:modified xsi:type="dcterms:W3CDTF">2009-12-14T21:24:24Z</dcterms:modified>
  <cp:revision>1</cp:revision>
  <dc:subject/>
  <dc:title>Slide 1</dc:title>
</cp:coreProperties>
</file>